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F05F-5A12-4609-835D-121266A8A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300C-3785-41C5-8C2C-F42D8E95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BDB5-C581-4A25-BEFB-831E28840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8B8A-F495-4238-87B1-9664B49E2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D3288-E275-48F3-B0AE-CD00A4F72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9A8FA-E3B7-469C-A66D-23933B92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E831C-EBDC-4975-88A4-320B1162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99D1F-700D-46C5-938B-00217C7C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3188C-423D-47DD-ADE7-A12F7DDD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C850E-E18E-49CB-8307-7F75C687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DFE38-FB3B-4436-929B-75A8CD19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E80B-3E7D-41CF-B466-5EE59C85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E7A43-D3EF-4806-AE2D-6CFE01DB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1A3F9-D433-41BB-ADB4-13B57473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C46E5-CBED-4176-8170-6148907E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9C4A8-CF36-4DA0-9FE7-5CB3014C2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451E6-CE27-46C4-982A-C6557365F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F4CC-C30E-4414-B0E0-B7AE70C2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A370-568B-4888-8536-6B43822D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D181-A6F5-4FF8-BD06-74565E7E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D98E-AFC0-4BFC-BC14-D982983F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0AE2-9AB5-4F6A-901C-DD5C9B23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2833-4E0B-4B4D-BDF6-5BC11E89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FD50-8EEA-454F-ACFD-B02ECDF0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5EE2-9C35-4B2B-9904-F009D2EE50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2D31-3487-4D87-8C1C-0EEA00C50D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2133720"/>
            <a:ext cx="84582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Designing A New Toy</a:t>
            </a:r>
            <a:endParaRPr b="0" lang="en-US" sz="9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06668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Team analysis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ainstorm on your team’s efforts with a 2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. 1. What did we do wel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. 2. What could we have done differentl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w, revisit your criteria, and critically evaluate your work by responding to each of those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gratulate each other on your work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ore understandings</a:t>
            </a:r>
            <a:br>
              <a:rPr sz="6000"/>
            </a:b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at some key thinking strategies can be used to develop new thi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to transfer these strategies into real-life stuf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at a team can create a much higher standard of 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Some intro question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te a series of toys according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est level for different 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igin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right f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ign a set of criteria to judge the worth of specific to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. Which toy would choose y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Team Self-Regulation??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f your team is sensational, what could be the criteria for an analysis of your efforts e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gree of initiative / creativit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bstantive listen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vel of engagemen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Overview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ou have been chosen to take part in a very exciting challeng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major toy company has approached you, and asked you to develop an innovative new toy for the world marke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ou also must be prepared to work in a small team when you design this amazing new to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Some details for you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is new toy must have the following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 must be highly technologic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 has to be fun to u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 must appeal to people of all 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 needs to be easy to u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 has to be reasonably che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 1. Design your new toy.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ere’s one strategy that you can use to come up with ideas for your to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The BAR strate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g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nd here’s another strategy you can us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It’s called the Ideas Matrix. To use it, just fill in the sections with combination produc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09480" y="2895480"/>
          <a:ext cx="7772400" cy="2867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pto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bi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col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stwat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o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2: To work with your tea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610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’re going to use a strategy called Discuss: Publish: Shop: Re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Discuss: In your team, brainstorm lots of 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Publish: Agree on a toy, and draw it on one of the large she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Shop: Go and look at the other team’s 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Refine: Come back and improve y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5-10-25T21:29:15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